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F94-1A3E-4924-857A-80EFD2B4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191-88D1-40FE-93A6-7D6E4FB3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366-9DE4-41C6-BF76-7EA9D551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927-DEF9-4A06-8E52-F4C08F2B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0B3-CC44-4269-BE30-FD53007E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6CB-370C-4629-A9A2-337BEA5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5A8-D881-4A7C-9757-73EBF0CA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9DE-09CE-4EDE-BE13-11589E44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4AA-A5BD-48AB-AB16-D3461B8C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4E6-16FE-4A5D-B184-715959D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290-4380-44C7-B869-80E09C1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661-937C-4940-960C-3627C57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516-C630-4008-8687-AA3E85A78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36576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4f81bd"/>
                </a:solidFill>
                <a:latin typeface="Calibri"/>
              </a:rPr>
              <a:t>Wik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15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k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 page or collection of Web pages designed to enable anyone who accesses it to contribute or modify cont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TextBox 3"/>
          <p:cNvGrpSpPr/>
          <p:nvPr/>
        </p:nvGrpSpPr>
        <p:grpSpPr>
          <a:xfrm>
            <a:off x="334800" y="1841400"/>
            <a:ext cx="3743640" cy="1150920"/>
            <a:chOff x="334800" y="1841400"/>
            <a:chExt cx="3743640" cy="1150920"/>
          </a:xfrm>
        </p:grpSpPr>
        <p:pic>
          <p:nvPicPr>
            <p:cNvPr id="44" name="TextBox 3" descr=""/>
            <p:cNvPicPr/>
            <p:nvPr/>
          </p:nvPicPr>
          <p:blipFill>
            <a:blip r:embed="rId1"/>
            <a:stretch/>
          </p:blipFill>
          <p:spPr>
            <a:xfrm>
              <a:off x="334800" y="1841400"/>
              <a:ext cx="37436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7200" y="1905120"/>
              <a:ext cx="356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collaborative encyclopedia Wikipedia is one of the best-known wiki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TextBox 4"/>
          <p:cNvGrpSpPr/>
          <p:nvPr/>
        </p:nvGrpSpPr>
        <p:grpSpPr>
          <a:xfrm>
            <a:off x="195120" y="3444840"/>
            <a:ext cx="4542120" cy="3273480"/>
            <a:chOff x="195120" y="3444840"/>
            <a:chExt cx="4542120" cy="3273480"/>
          </a:xfrm>
        </p:grpSpPr>
        <p:pic>
          <p:nvPicPr>
            <p:cNvPr id="47" name="TextBox 4" descr=""/>
            <p:cNvPicPr/>
            <p:nvPr/>
          </p:nvPicPr>
          <p:blipFill>
            <a:blip r:embed="rId2"/>
            <a:stretch/>
          </p:blipFill>
          <p:spPr>
            <a:xfrm>
              <a:off x="195120" y="3444840"/>
              <a:ext cx="454212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04920" y="3505320"/>
              <a:ext cx="43434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Wikis in Edu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Students work together in one place to research, outline, draft, and edit projects within the wiki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Organize articles, websites, videos, and other resources for student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Give parents a chance to be a part of the classroom and stay up to date on classroom news and event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-Students and/or teachers post and respond to questions on a given topic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Picture 5" descr="Leelefever-WikisInPlainEnglish801.flv.jpg"/>
          <p:cNvPicPr/>
          <p:nvPr/>
        </p:nvPicPr>
        <p:blipFill>
          <a:blip r:embed="rId3"/>
          <a:stretch/>
        </p:blipFill>
        <p:spPr>
          <a:xfrm>
            <a:off x="4800600" y="2209680"/>
            <a:ext cx="40514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5:12:28Z</dcterms:created>
  <dc:creator>RRISD</dc:creator>
  <dc:description/>
  <dc:language>en-US</dc:language>
  <cp:lastModifiedBy>RRISD</cp:lastModifiedBy>
  <dcterms:modified xsi:type="dcterms:W3CDTF">2009-03-11T17:41:31Z</dcterms:modified>
  <cp:revision>15</cp:revision>
  <dc:subject/>
  <dc:title>Slide 1</dc:title>
</cp:coreProperties>
</file>